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A255C-F8F9-46B7-A34B-7BE1B9BAF1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80AF-35DD-49EA-A1DC-915D8EF8BFD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ECA1-8C96-413F-A767-BE594692DAD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232D1-1FA6-4602-86EC-50701CBF823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8F8E4-7CE5-47D2-8E4D-FF8E3E58F35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02EB-0402-4213-8D28-9D8F078AAE3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B162-5609-4ACF-BEB2-F10BF5302D4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4FAF9-11C7-4A1C-897C-6DD784D3AB9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3F044-53C8-4B5B-99CD-E3B786777A7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3289E-6729-48A4-85C7-03A33FF846E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A4396-D0D8-42B0-81B9-3AB1189842A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DDC90-675D-44B1-8EFA-7C96CE308F6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5DE96-2245-473B-B2E7-11A236EC9AB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FDC18-52D9-495D-8C1F-C9E31D593D8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CD585-876F-46A2-AA61-DCBC8F3598E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FB91-71F6-45BC-8C87-077BB4024B3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C691-4CE1-4089-8E6C-1096BBD5193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D699-9C77-4776-90B7-F34D8AEF4D6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C0ECA-C844-4D55-8897-C3746240021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52937-B880-4FDB-9791-A8DFC1652B0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E1049-2B14-441B-8960-A2D82AF6C2B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F9473-B2DF-4B49-B940-AB88A373636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2EA72-7AD8-4FC4-B960-35BD8BC245E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1DB9E-47D4-494E-B67E-34A04C5ABF4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3EDE7-948B-4207-9115-2C557CB7A19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AB56A-4A04-4474-8DB4-ED7E7CE0C8C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04560-2A21-4FC0-A095-D088C77CC46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5103F-F52A-41B7-B456-AE07C859B1E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C621E-8F44-42A7-89E1-CCF965A53E3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A4FA-0D16-4B58-9C39-3CA7DE83632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872A3-C3F0-48B1-884B-06135F18064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AEE1-A3BE-4D19-A845-DABCDF19155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3B5A-0D98-43A8-9905-BD9A0FC7C55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3EC59-99E3-4328-8125-A49E2650D2B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A43B9-3C08-459A-9DFC-C4624D6FD76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8C4B-E136-40C3-B11A-7189E74C54F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9A68A9-6C56-4277-82FF-2A19B2E358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43F2CBE2-A77D-4E96-B286-6D4E7AB2F84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E62FF26F-9065-4349-B797-728506097EA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6B707BA1-9277-412B-9D51-8969ECC4016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79C43654-E317-4392-B9F0-3286F5ED50D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662CDAF-A3FD-4978-8B59-806D290AF62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776AB66-33DE-4D32-899F-A32574C7A84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85646D8-42AF-4392-88A3-AAF5A75A5C6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E9C4AD17-C9E6-47E2-8C7F-DB5780405BB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11E952C0-8A14-4E2D-A8CB-12ED30FA546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CC40B5B8-3155-42AB-974D-964882A6ED1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950DEE0-0727-47FB-B647-1D13148116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16F9AE51-905B-4564-BE05-AD4F36B260C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2DD8BB4D-4C3F-4C86-8239-01557A117DE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33DB4C81-2E84-410B-B202-6FC3DE93BF0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5EF83275-592F-49E2-A1B6-D1F9BBFA80D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E3C7D26F-45CE-4AB5-8D6C-E157089DD14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C62EEE3E-452B-4B1C-9AC2-A00781A0FB9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B25B421-E5EC-4493-AE01-10F382338FE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BD425CCA-7F1B-4C47-B04D-B07D5EA903C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B209E6AA-0C23-4639-8A39-40707CBDC36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E52C0285-DCC2-4BAE-88E2-B373207FFB1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1A1E5F9A-BF42-4369-B529-BDE79576FA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D83125A9-FE74-46B7-96C5-D2CCE5F4C86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B246EB7D-E699-42BE-BC3C-0E586532373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CBE1592-C0EA-4A1D-89EA-BE126444553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1870982C-BD14-4B4D-A3CF-E01AE99B0D4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F504AE6F-E381-4834-8879-40D370E00DC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B640DA12-21AC-4A88-9D3C-6086B76DBE6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BF1A7FF7-C552-4977-849D-D05912A54A1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3CB20AE0-D0A0-4247-A223-E61979B99F1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FFBD2ED-3493-4E6A-AA81-9EA9FA93A81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AF4996F-F919-4BC0-954B-71AF9D14FCB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C043D5B-0D12-4713-94BE-F81134FCF0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88AF7E-27C6-4120-B431-BD5AA6AEC0A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C2EB040E-70E4-484A-AA06-06783E74DA7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357691DD-8EF6-49B6-A085-A7CC6864D39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3715E9E7-38FF-43D6-97A8-25CA3F6D48B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180D877-8AF5-46C8-8154-103FAFF4309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CB9009A5-9C16-4ED0-A13E-33F3D7883C2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17B583EB-5E3A-40CB-8814-8BE3B409F35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CD8063BA-ED60-4220-9BB9-F30A0B38918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F931851B-85DD-4883-8F72-B0AE204C093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1FDA8150-AA17-48E2-A56B-F1062A2034B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DF9EB574-8656-40A8-B18C-3A872EB4A5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124D5EF0-54F6-423B-B92F-CD6231CF611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12CC3A2-28D1-4F7C-ADB8-EB8ABAD6413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A479F48-6101-4E1D-B470-B0A78B89B71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6530D9DF-198E-473D-A14B-9B754912F2C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B7793294-DF23-4EDD-A0E6-1AB1CF6FDD9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DD0FF309-76F0-42C8-8597-0829A680292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9C650E3-2374-45A4-BFF7-07476B2A72A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F879A956-7221-4C5A-B336-FF174ECC0E3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35460A78-0319-4AE2-B129-F93022062C1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6C6A8E42-4A4A-476C-9C30-DFCB58222EC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00E22EE8-1CFB-4755-A6E7-510FCBEB5A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F90E052A-3FCB-4B31-8222-304F893D716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AE903E46-A329-46EA-B0C5-9D96459EC46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52CDB00-B1E1-4890-9D2D-9392EA26C37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0C9903D1-752D-42B8-B4C1-DBAF07DE0FA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AFB76E0-E29D-45DE-B8A8-7C730DF471F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A596E87D-04E0-4DA3-B739-49B6278F6AE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184B00AA-79D4-4615-AE63-0C3DB5277C7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823EFBBF-1E73-4A66-A6E3-73B9C5FBFB6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BF209E8-28E3-4C06-BDAC-2F69B5DB44A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EEBB609F-9A38-4AB8-AA2D-03476B295E1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7209CFE3-C531-4F61-9155-D0E018C992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449F46E6-C4BC-4A1E-A371-6F5320697FD9}"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754117CC-BA37-457D-BADA-CFAF8AD7782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37E41A85-8A32-4DA3-A401-9B1D513D31C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815FB763-12F8-4FF8-B681-3AA5B2AEAC0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A634073-DB09-404C-8570-D32491F402A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0BAEEB1-80C3-4969-97E2-85228033B76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37316F20-8E56-4809-A7BF-ACD6D47E8E5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70BD417A-94E3-44BD-9601-F8AF3ABDFE4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C53B4673-A5BB-423D-ADFB-017E6DD6DE3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29E00F69-2173-4389-8501-FC3D825A56E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3E76AA3-AEEC-4844-A3E7-EE75C3F041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60300FC4-7E70-43AA-835D-57D03E6750A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85691F04-43ED-47FD-8D3A-4C32109772A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8F7009BE-782A-4207-92A9-1793A674A9B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A00BC7BD-3F03-4E6D-8F2D-27AD04C1C89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3AD68F76-C1FC-4767-AFE7-E63DF2C01A14}"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881FA73C-91DA-4D1C-8E1F-8F6080F31E6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E10A9E3-0A5E-45A1-86CC-1A11EE77537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2EC3199-AAA4-48F6-AFDF-8107434148D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442DC92-6A91-4DCC-8824-C8465C080F0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1C0D976C-AB5E-4248-BC2C-50969A1B17F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CC890D94-38BF-40AA-83A9-8D5D2C2F59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C2046A95-5E1B-42BF-9D18-0C7F3849D6E4}"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8334E2B6-8C46-40FC-924C-B3C9A7E4A895}"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8E20D72-F7DC-4788-9EDC-461390FC9595}"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D0E4600-E0F5-4AB3-A74E-095ED313F47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67751EAD-6CFE-4446-AAA6-E72B0808068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8F758419-B300-46F0-A64A-20BEF0FCCD0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CF70C5BF-DABF-4663-9F6D-452A2571513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E3A3A575-B637-43E8-9DC4-8D6E206A1CC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16DC8CC0-6028-447D-96B9-0EF337BE352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88D053BA-8C8A-4612-A747-0D615ECAAE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814BA811-E45D-4159-9E70-70F8B23CC0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DB647F4-D7E9-4271-BCD6-95DC253C13F6}"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120CCE14-6A1E-4362-BD14-C55D09F32913}"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410FE96-F454-4303-8439-F5ED3ADBB7E9}"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BABCE083-2A32-4FE8-A33A-A8ABACA9ECA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BC6EB3DD-26FC-4482-923A-39D06F675211}"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56461B5F-D91D-49DC-8B2E-3E38B6848DB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D2CF880C-07D3-4532-94F0-AD38052AFCA5}"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FAF7CC3-DBA9-469C-87CF-5168520184C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08FF66F4-831E-4A37-AB80-B99416F34CD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AF8D0B01-8065-43DF-8AD4-6691E7D5E5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7B042837-D1DA-4AAF-A433-FADA0B695296}"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422B07D2-E573-4725-BAB6-E6D848280C17}"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A7528FDD-FEEC-41ED-9085-8182F9A67A7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DA5698E6-01BB-4C2C-B8AA-B97C2451472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8AD4D31C-564C-4058-A0F8-BE1EC34F50CA}"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F201F2C0-2D1F-448A-8B20-60A2082EC039}"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0B2CDF2-39AC-435E-AC9F-A11C20CCE2B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595EEFA1-855D-49BE-BCC4-4415DE189A87}"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0622DB62-8EDD-4C06-AB56-D5F4743F35B2}"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00DDB80E-5592-4E36-B28C-FC839216E72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FAB1625-7BBB-462F-B5AE-3FC4A0786F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81358762-B366-4646-B320-27513963A96A}"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C3AB4DEC-4C95-4750-AC33-F32AD71AD34C}"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C9AF17AE-4CC4-4A8A-BB15-E7818B4ADA05}"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752B1EFA-6D1C-4474-A61E-B50CDFCF47E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490D6962-A478-4923-B3C8-9D6C864F7479}"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6EABF5DE-5454-4E9A-A2E7-57E95603DCE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FC84E973-062D-4162-AE9C-1E1F72057436}"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B6A266C4-38D1-4949-BB93-E7896E7EA81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FB97E402-0C1F-4C5A-873F-2FA10F4F088A}"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FB7D9E99-EC4A-4415-AB57-270F17A24E6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BF691ED5-3062-46AE-90DB-63F243576B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85C4E84F-5CEB-47A8-A775-5C3A756CFBEA}"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354C196E-CF4F-4D26-AFAC-CF1CBA4027F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2781BCD1-E325-4E35-943A-56CA61A8CB29}"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AA3312B2-D6AE-4CC5-9A22-AC53A4E23B68}"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457E7D17-7B04-4301-B33B-AB841CECC1E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15797DEE-B310-4A18-BF04-D3055877812E}"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391FCCCF-CEA0-472D-8F53-66CB1B9BFD5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8306A2B4-5C90-440B-92BA-E9CFF787105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31081AC6-DF52-4919-AA9A-3D582657319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AAB4839-6087-421D-95E4-52D3C64F5F0E}"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871C8B65-8F6C-4A6C-9C8D-6BBEBF046AB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E1FB2A1-8599-439B-B72A-D1284D8EAA68}"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45EF6830-9386-450F-96A2-99887CAD1BD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AAF8AB24-32A5-4D5A-9F49-8BC1C6A3232E}"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25E329D0-6B81-42ED-A4E2-B144E46D5E8D}"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FC8E0EDE-C005-49DB-99D7-CA63376DA5F5}"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900A1492-0A66-4DB5-961B-52162FB877BA}"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CBFE83C5-F3D5-4F71-8A5D-8A23D1D502CA}"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0956A5B6-BD5F-46AE-9DEB-46C380B232EF}"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C0CBA5DD-2ABD-4672-99E9-FCF35CC5B033}"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4E580EA7-3F5B-4C6A-86D2-B818F5D8A05B}"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5115B2E-6615-41A2-B647-3391B4778C1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40ACB265-809F-42EC-BCE9-B53500FEE72A}"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7207C177-2223-49E4-A4F1-911735A80AD6}"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CCAAD39-983A-461F-A171-1331C5AB4CBE}"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6D68A42F-CDD2-4F25-AE66-C098632467BF}"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907F19EA-1153-4DD2-981F-4149D7FD1002}"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B6285F52-1F72-4369-A01D-3BCA105FE54F}"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7922A1A-C7EE-415C-A8BF-B8F9E7905207}"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521C257C-6992-4AE5-9EF5-584EAF804751}"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FBC95632-255A-478A-94EE-70BB3EC57E41}"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CA461820-01E9-4EED-854F-3D4C891A31EB}"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42E11E61-E9B7-42F3-BC6A-5ECE6ABDD0B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C711C70F-0B39-4642-BAD5-9F8A0ED86C7C}"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3FB3FF07-6BF5-4570-993D-69941787CEEE}"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193C5D4A-7BE3-4020-8EC5-B8E737155AF9}"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EA90A7D-91C6-42E4-9F24-C2A8FCE7DA47}"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0A38487F-51E7-44D7-9635-0A51AAC5092C}"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2C26C6C4-3CD0-4FDF-9946-B9A5E0115838}"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27B2EB99-739E-43F7-A64C-1B6047234B71}"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EF9FDB45-D265-4437-B132-A94D3D0FE142}"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EBB7DD9-8EE5-4AE4-942E-DC9429CF31DD}"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DD5B8E49-B633-406F-B6EE-F03AFA9870A5}"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805CDA7E-CBD4-4430-BFA9-8FDFBB9BB0F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E9612723-BD29-49AC-8B3B-2E2A8BDA5F0C}"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64685D55-816F-45A9-AAD9-C0B6582BB5C5}"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A322E321-0E16-4587-98A0-7513CF0ECE48}"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216DEC09-90AA-4AC0-9ABB-165E58B9ABF9}"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8F01AD9E-F12F-49D1-B233-A013DBD4117D}"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7883148E-257D-4BE2-9F40-007C45AA4099}"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BA34FA8A-6749-46D7-8FC6-1FDCC9AF0AD6}"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6F5B1549-7A66-4D7E-A8A2-F77C924A8E88}"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1F1F4B4B-D0BD-462A-8240-AAD3437D7FE3}"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02B18611-C66C-4D1F-9DEC-05B5F745BF0B}"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F2857AD8-5926-49AD-977B-16175CA99F6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2E280E7C-6DDE-414C-B557-DA93690C06A6}"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1D309095-1572-4B2F-9625-6A51A3C39E9A}"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BA751942-2499-42CB-A7A1-62E2F5F9CF65}"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D6FABE0E-9802-4A58-A3E7-B6FBED680494}"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86F4C3D6-F4F6-48CE-BEAB-BB86F9C7BE40}"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AC689044-C4FE-45FB-9CCF-F273E2E5231A}"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CA6BA543-81A2-40D6-B410-289762263BF0}"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8268D3EA-6176-4B82-8089-3996278CB8D5}"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2B4DD5FB-9200-43D3-BFDD-293BD5A65072}"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7823D9AD-28EB-4CC6-9118-179B447CF334}"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2C2542EA-CE80-495F-888D-8FCC3BED43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E9D7DA32-BEFF-42FD-B894-4603CF53415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33A33FCE-4448-4111-93B2-25F2CDB2F01B}"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512A8D20-4856-48EC-A4BE-471E4758DCA8}"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2B1A0429-BDB9-4C02-A215-D19256F745C7}"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140A296B-DFDC-41CB-9DAE-A6B24B616428}"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8E5F3F4B-85A4-47B8-A662-CE5A92857878}"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D61652C3-28E2-4A89-B797-CBEAA3D944F9}"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4B74EB4F-C03A-45EB-9265-D513B67D2631}"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05979A1A-322C-41A9-BE54-718A38B30ABA}"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8DE3FF48-227E-46FC-9700-FA14F100D8D5}"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E201B5AD-5C8E-490B-AFDC-9673385D95F6}"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6AA8ADD3-E850-4628-98BB-CC8A7B9C27F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D51613E-2E45-444A-87D6-0033BA5CA8DC}"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DEEAA1D8-1974-44DF-880B-D7DF3714956E}"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9343F4C0-EDFC-4F2B-8563-02FF592798F8}"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8069D397-025C-4947-A5EC-84F9E3B5972B}"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F2FA18BD-147F-44B9-BDCC-B2FF6A58E9D4}"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A8ADCD9C-5EAA-420F-B90A-5C21FBDC782B}"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E908D09C-3898-4089-8A89-2AD698EFF3C7}"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F73881ED-7C27-4618-925C-2A4C1A598935}"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52279A68-D046-4C49-AC25-5C5ADDD062B2}"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3060C3AB-122B-49FF-A62D-3F24C22759B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B3F1554-BD4E-4888-8F5F-7C0A7D60D841}"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5F77D1AE-77DE-4C70-9188-FF5EA72B0951}"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CCF35462-CFD7-4664-ADDA-5512D30ED5AD}"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04CC649A-EE47-471B-9BEF-84CDEE28459F}"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3BCAA977-A7C7-4205-8361-0FF8B50640E4}"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05C8E2B2-AC71-4E68-B448-B0B2C24C0C7B}"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8050931D-3E58-412D-A90D-DE553E1A39C9}"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66AA6855-BA3B-4B26-A9DF-CF56C57C906E}"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2C3A9226-EA2E-4626-8A3A-A0A2CF6E1163}"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FDCD83E-7518-44F8-A447-7967C6EFFB7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F8DE7243-0797-419E-A0E1-3BAE2E24F8D5}"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64DABFD0-B108-4E81-A05E-DD8D1F950EB6}"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91862106-7E15-4EF2-8509-1D84DCAAF758}"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6E61A305-6A08-45F5-9A5A-FA271813FF40}"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F41AC4A5-2B6D-4961-9A2D-BA3350EBE0B7}"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F3D65EA7-9228-4A2D-A1DE-760C0C152A44}"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50C7B383-C242-4031-8E37-6AE7FC3BB2A5}"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AB203FC9-ED2C-4413-BC2F-EDA02B65452B}"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31590C41-240A-400B-A7C1-9DEEC53191D6}"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88D13D90-32B9-4EA0-92CD-D9478DABE80D}"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7E0E2EA5-40EE-4F91-AB0F-8CFDB8AC329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EE4C1AA4-2472-4CDD-8C64-7C714B03335E}"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4C446D1A-9B86-4B45-9726-39E9E444A168}"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2B919DDB-19A4-42B1-B611-8A461DDF4738}"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464ECA09-CA22-4B70-B7FE-73740F399A78}"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1533AD92-59F7-4374-BEE1-180A4DA0B886}"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846E2D8F-661E-4006-A6C8-2A8630320BC8}"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24E305D0-1004-4716-87D0-9AB0ABB6FE85}"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0353551E-18D3-4030-825E-1582DC5DC4A6}"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4FC08B18-43E6-46DE-8AF6-7E4DC3030D33}"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DF1D2954-D599-4931-AA96-C3E37DD7B710}"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6F6B060F-545B-4DDF-BA0F-9F14DB26781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5B96EACD-CE00-4382-9249-8CF11D5FC27D}"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0C6E4EF2-D4D0-490C-853A-5A449AA36DEE}"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EAE320AD-B2AA-4B1B-A3A4-3548FB832A0F}"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0A3A4EC1-DACF-4BBC-80F0-69201C6DFD7B}"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5D96326D-69D6-4D4E-9214-7D934B27E930}"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2A90B3E5-C585-47AC-8D3F-6F16731BC9F4}"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6A48D80D-4DF8-4392-86F1-8D09F22C8A20}"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FBC0797E-3871-48B7-8F6F-EF7EA5CE04B6}"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B33135AC-C809-408C-99E0-AA254A25D7B4}"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80F42D31-81B4-4D6D-96B2-62CFD05A69F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D61F968D-089D-4DE5-9D22-62BB122DAFBF}"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CE8E5C97-65C4-4C68-A9A5-945AD5714026}"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1F20C374-D7AB-4544-A97D-2915D6C49F43}"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BE58960A-5EC2-44DF-A2EE-C0F10F986330}"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2C4C30C2-F01B-4D54-99FC-E7FAFB15EC31}"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CB29D2BE-BC18-493E-AF00-EB74B2C7126B}"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BC038CFA-A3BC-43CB-ABFC-EBC5D45E6A5E}"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21D01FFD-A13A-4C4A-8A59-262BD318FA59}"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E5BEF86A-4256-4906-B05E-4D21E27F3B3F}"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FC214809-4388-4B3C-84C0-0F33438A48A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0E40D6B0-2694-401E-BF1B-A82E8C83EAAB}"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1E3F5A12-FF1C-49FE-933B-E85779DE2620}"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7C40A6A4-9178-4FBE-9D65-77FD2DD8A047}"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64DDF871-69F2-4C3B-83BD-A1D1AC90E85F}"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DF88A255-CB5A-4D5A-AF3F-8E1AE168E4BE}"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8AEB5DEC-BF38-4B8F-9F2A-060E953D8D22}"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11C66686-6608-403E-B6A2-46CFCF94B8B4}"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31C18153-3F09-4BFD-85A8-82E1286DCA88}"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A390D695-5117-475B-A9A7-DA43EE22A8BF}"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35433376-FA19-4674-862E-B815D24A75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ABDBAA96-6A00-4647-9271-0259E54C5EA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6D9785B2-BC91-41EE-A68D-A49738773937}"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9BEF3673-0B07-4B1E-933C-53BEBE35153A}"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70704287-EA47-490D-9E44-51650B41CC7F}"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758DA19D-584E-47E0-BF8F-56E657750D85}"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72CCA2FD-FC53-4A58-B776-D57F019751EF}"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77D3809F-9875-4C85-8E7E-369BFB4725C2}"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A0D59A71-8C74-4B03-A56D-6775EADF3A03}"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375E4A37-5EAF-4029-9E4D-BC99942B571D}"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3524208B-EFB9-46CB-8CBA-46D35FAE382B}"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4D91EE67-F662-439C-8B8E-684560405E7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D4F85CA9-B412-46CE-82D0-FCAE21DC9E15}"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CB57055B-F122-4115-A775-53E1290D5D96}"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9EF51955-4635-4DCF-AD8E-20248788A09C}"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90038D08-89CF-483C-A3E1-C18D080D39E1}"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48273A7C-4A35-428A-8DA6-BE45DE17B6D6}"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D3B3F7F4-B28D-45D4-B786-9400E2E5B3B6}"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1D51510A-3984-4AFB-9765-ED115EF23371}"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7BC26450-971C-4B79-BA66-5DD015DA75FE}"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786678F6-8670-4E0E-A0C0-9EAEBDC8BF4C}"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80F5A67A-8E5A-4A53-9314-6D2501AA5C4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C733E854-0111-4CFB-8E1F-FCAEE15DA650}"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D6A41D2D-122A-4472-8B7F-A6F9EF1A1F20}"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EA81739A-1D39-4CF2-BD53-E7A1EEE98A8A}"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F6FC3B24-360B-44E5-837F-6ED16AD0075F}"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68DC930B-F8E9-4550-9A99-1E2B060AD858}"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3B34DC4B-E157-418F-8D7E-E3C3B21E9374}"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EB48C049-F037-4325-8849-2F181DEE6267}"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C3FAA86C-507E-40C2-A010-CF54DEAB7B52}"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25B33D88-DFFA-4884-B036-6EE09C0B48FC}"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F894CAF3-938C-458A-96BD-BCCB280BB68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6E997BF2-2039-40E7-8BE6-B9E77C265690}"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F4AFA8E7-E073-4F1C-9F57-D43E3B64BA19}"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3C612BEA-F586-4ACB-B75F-786A9C03D12C}"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FA083DA0-7E54-4065-B318-9746D8C47533}"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0036E018-04B2-4983-ACA6-91336EDE6E3C}"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2C8786D7-A838-4C96-A4F8-28D7ACB836D6}"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EEF6D1B0-F354-48EE-8A9F-E2E7D93FB496}"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B58F764B-D6FA-453D-A14A-D888AAF0EA2E}"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BD9D7420-7BA1-4A7B-A669-D4D7602C63BA}"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728BEAF1-98BB-4314-8D84-249609DD64F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791DFA75-7AA4-4311-AF8E-06E35CE73F4A}"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B1BEC6A0-3547-4F71-BFF4-DD30A5215707}"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699760F1-BCD7-4255-8B93-8B9E7B907897}"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0E4E2FAB-E664-442C-A3B0-8BA64985D0FC}"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C0DF6B3A-6CA7-4217-892C-099F4435ED9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6C6A41-8FAF-473F-BE6B-D4F99407C4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D4B6D707-C785-4ED7-B20E-26EE6C24625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B5C722E-1F1F-454B-AFA9-A24862BA19C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D02013E-443C-4F55-8D63-9CA46A86579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C7241AB0-9BB7-4293-A464-D77628190D9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204EC0EE-311D-4BC8-A48A-21461C7DF76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E45D4471-2536-4B15-B3DC-33CC5D9B19E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4593AF6-B79C-450E-A229-69617244ABB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6C11B23-9BBE-43AE-8F4E-0D97E3FCFFD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AD09690-E861-4142-BAED-DBBAD4730D3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D63770BD-A80F-490B-B74D-987DBDAC11E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2381692A-0190-423C-8E20-3C1554867A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601F7020-7044-4BC1-A4FE-7D50DAC05D1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8E051139-844B-479A-B611-C0FFC6F1926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F99882F-99DD-4025-AB4D-3C4AB282684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1F209B9E-840A-41EC-994E-6F7022F155D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E0EE4392-9C8E-4DD4-8104-67CE85E6BC1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59A90BF4-4A9B-47EA-B02D-968DBDD122D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CE082F9B-AD51-45D0-910F-FE36F24FD54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E3FF3A53-FEC0-4B16-871A-12BB583AB42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CA3E088-904B-4AB4-A38F-FA69B79E926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683C34A0-B76A-4FEB-AE1C-049D90A8B79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818174F-D26A-4655-A238-7A8E770347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B7C2CE1-D044-45E5-AB0E-B14CF93FC4D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B1C15D3D-9758-49E8-B504-A692E8B7B51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08D358B0-74FA-4D85-AB96-70E828FF7B2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25FBB6C3-9B05-422C-9E5C-94B9C933B4B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855EFD6-BC8F-492C-997C-45C97D6DFCB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2E119B1-80E7-4E61-A944-7C71D9BDB2F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7CC27B6F-ABB8-4477-B681-B939363C6A0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AB4E8209-5087-4CFD-8257-F18036821A1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D91FBBCE-9706-4849-9E72-3491E41AE8C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C4AE28AF-822E-4C2D-8B83-F20FCFE2E2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7A1A75C-150E-409D-8722-2E4AD2439AD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DF21C8B2-9ACA-4304-A731-7F71AF52296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76C5D85-A8DF-424D-902F-77316206AF2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4BE9FC5-AE2F-450D-93F1-16F88875AE5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1D0CFE3-63A9-4A6C-89E1-0B519C903A6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FD4D2596-4DF8-4F3B-A240-8A092791D50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3D0EE9F7-D59E-4A45-ADC3-1FF1559D4D4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4EA47AE4-9485-4FFD-B8D3-684D6F357C2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61723C0-00B6-430C-AFAC-DA3C9122B64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00EEA8E2-B8F0-449C-BCAA-7605F4CBFB8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7808831A-5731-4B51-A25E-B6B84E2702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576C-920F-4C8B-85C5-3890A3674B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919F1-42D6-4D73-8DD9-52F4572978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B220-CC8A-411E-B938-ABFD67D886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C18A1-8530-439A-B57B-28E999239A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C85D0-4C98-48A2-BE39-B308743341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E0BC-C329-4F66-9D61-A1B1265833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87024-8279-4713-8426-87E906774C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DB48C-FEE8-408E-9A18-F68779E2A0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BC18F-0B08-43D0-9D10-ED9B3386E207}"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CCA1F-0B39-43C2-AD37-E91B6D9857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A967-1E9A-4D63-B8DE-4CE4D5BE06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F0155-4AE8-4A09-B029-F0381D2116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98FB7-53BE-4793-8D1D-CA6C2F2E07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9D04E-1ED4-4EEC-8E70-0A70887197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FE64-2151-4F9F-AC9C-7001185881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0696F-CE78-4EAF-9AE9-5AF31E823C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53607-C139-4AFB-9546-37E1BA1437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79DE7-8CB7-4FD5-A946-9CB09C4A84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8F8FE-0990-4914-8059-F8680AA8E2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4DE00-30FD-42FB-9E84-52027647F6AF}"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477D-6FF9-43E1-ABB9-E8AE64CBBD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19A03-656A-4318-A921-41B1AD3FBC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2254D-A9A3-4044-8738-2EA821A7AB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890D0-9092-4545-A7B5-69ED4C1DEC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C2451-567F-4D3D-B645-93C918AF25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AA0F9-3469-4250-85A1-BCD758A3B7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5481D-91C1-44C9-B920-6997131EF9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CD7B9-6E9A-4BE5-83D3-CA7FB0751F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F0FB5-77E3-442A-873E-B6DE78B7DE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1BE26-70C0-4634-B992-B3212118D2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EB46B-26F5-4086-A0FA-E6AAFE7F49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CA6B3-8A3D-4882-A367-0623C29664A6}"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3E0F2-6CBB-4E39-A132-3E60A3B5B0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017A9-C436-4A4B-BA81-DB60857340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6676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8960" y="6480"/>
            <a:ext cx="5086080" cy="63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71600" y="1981080"/>
            <a:ext cx="6438960" cy="3305160"/>
          </a:xfrm>
          <a:prstGeom prst="rect">
            <a:avLst/>
          </a:prstGeom>
          <a:ln w="0">
            <a:noFill/>
          </a:ln>
        </p:spPr>
      </p:pic>
      <p:pic>
        <p:nvPicPr>
          <p:cNvPr id="1620" name="Picture 3" descr=""/>
          <p:cNvPicPr/>
          <p:nvPr/>
        </p:nvPicPr>
        <p:blipFill>
          <a:blip r:embed="rId2"/>
          <a:stretch/>
        </p:blipFill>
        <p:spPr>
          <a:xfrm>
            <a:off x="1333440" y="157176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52281-D286-4D42-9997-9934104C60E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a:t>
            </a:r>
            <a:r>
              <a:rPr b="0" lang="en-US" sz="1600" spc="-1" strike="noStrike">
                <a:solidFill>
                  <a:srgbClr val="262626"/>
                </a:solidFill>
                <a:latin typeface="Calibri"/>
              </a:rPr>
              <a:t>1/8</a:t>
            </a:r>
            <a:r>
              <a:rPr b="0" lang="en-US" sz="2000" spc="-1" strike="noStrike">
                <a:solidFill>
                  <a:srgbClr val="262626"/>
                </a:solidFill>
                <a:latin typeface="Calibri"/>
              </a:rPr>
              <a:t>).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ADA44-4916-4944-A270-76FA15B524AE}"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EEDB7-18B9-492F-97A2-EE2DD98619B4}"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DD1B7-8123-432A-A127-BEA97EE7B20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90720"/>
            <a:ext cx="8167680" cy="462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6480"/>
            <a:ext cx="6396120" cy="654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1:08Z</dcterms:modified>
  <cp:revision>36</cp:revision>
  <dc:subject/>
  <dc:title>Deep Engagement with the Shifts of the Common Core State Standards  Mathematics</dc:title>
</cp:coreProperties>
</file>